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05A4-B1DE-455C-BA05-5B56C2F1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91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84000" y="3651480"/>
            <a:ext cx="791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6A88-C96B-453E-A32C-61E5BB57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1560" y="98100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65148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741560" y="365148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CEC-EE71-41DB-BA01-2BBF85F4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254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61320" y="981000"/>
            <a:ext cx="254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38640" y="981000"/>
            <a:ext cx="254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84000" y="3651480"/>
            <a:ext cx="254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361320" y="3651480"/>
            <a:ext cx="254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38640" y="3651480"/>
            <a:ext cx="254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47EE-A40A-4BBF-8204-EF6994B4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BE40-810D-4F5C-95E6-997FE8B4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4000" y="981000"/>
            <a:ext cx="79182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6C15-E67C-46C5-B23E-D66593E5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91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6EC6-7B01-45E4-9192-4EF01C5B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863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1560" y="981000"/>
            <a:ext cx="3863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D270-38AB-4127-91F8-F40BE9AA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1BCD-F984-4BA7-9230-2337FB52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8E74-154F-4A20-B442-EF32B83C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1560" y="981000"/>
            <a:ext cx="3863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4000" y="365148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5C24-80B1-4165-9FF4-06FB7057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684000" y="981000"/>
            <a:ext cx="79182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AC7-5D08-4A3E-B062-769BAA2B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863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1560" y="98100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1560" y="365148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5386-6BF8-4AD2-A426-80B69ADF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1560" y="98100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4000" y="3651480"/>
            <a:ext cx="791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2C30-36DC-499E-8DCF-58813119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91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4000" y="3651480"/>
            <a:ext cx="791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7869-65F6-45B5-B011-296EA2A0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1560" y="98100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4000" y="365148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1560" y="365148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781A-DAE4-4582-983C-8DB33A77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254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61320" y="981000"/>
            <a:ext cx="254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38640" y="981000"/>
            <a:ext cx="254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4000" y="3651480"/>
            <a:ext cx="254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61320" y="3651480"/>
            <a:ext cx="254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38640" y="3651480"/>
            <a:ext cx="254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CDE0-9F5C-48C3-B1D2-DF06A5C8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91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C8DF-FD96-4948-9F98-6E1B2C8F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863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41560" y="981000"/>
            <a:ext cx="3863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B62-FD9C-4A3F-A408-277E99C4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7069-3310-46B6-8244-685FB2F8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935-F9ED-49FC-93F5-203A0813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41560" y="981000"/>
            <a:ext cx="3863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4000" y="365148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1FE-DF5E-466F-B486-BDB77F69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863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41560" y="98100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741560" y="365148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F96B-AA1B-46DB-93F8-C45FFF9B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1560" y="98100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4000" y="3651480"/>
            <a:ext cx="791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86B5-A508-4188-9435-8EBAB49A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539640" y="836640"/>
          <a:ext cx="7993080" cy="2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836640"/>
                    <a:ext cx="799308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 rot="19047000">
            <a:off x="8157960" y="48960"/>
            <a:ext cx="116172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000" y="981000"/>
            <a:ext cx="791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D1DB-953D-49A4-83A6-7B131FEE5E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19139400">
            <a:off x="8230680" y="107640"/>
            <a:ext cx="116532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19158000">
            <a:off x="8185320" y="203040"/>
            <a:ext cx="1025280" cy="157176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7681680" y="-64080"/>
            <a:ext cx="2309040" cy="2398320"/>
            <a:chOff x="7681680" y="-64080"/>
            <a:chExt cx="2309040" cy="2398320"/>
          </a:xfrm>
        </p:grpSpPr>
        <p:grpSp>
          <p:nvGrpSpPr>
            <p:cNvPr id="14" name=""/>
            <p:cNvGrpSpPr/>
            <p:nvPr/>
          </p:nvGrpSpPr>
          <p:grpSpPr>
            <a:xfrm>
              <a:off x="7681680" y="-64080"/>
              <a:ext cx="2309040" cy="2398320"/>
              <a:chOff x="7681680" y="-64080"/>
              <a:chExt cx="2309040" cy="2398320"/>
            </a:xfrm>
          </p:grpSpPr>
          <p:sp>
            <p:nvSpPr>
              <p:cNvPr id="15" name=""/>
              <p:cNvSpPr/>
              <p:nvPr/>
            </p:nvSpPr>
            <p:spPr>
              <a:xfrm rot="19133400">
                <a:off x="8878320" y="186048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" name=""/>
              <p:cNvGrpSpPr/>
              <p:nvPr/>
            </p:nvGrpSpPr>
            <p:grpSpPr>
              <a:xfrm>
                <a:off x="7681680" y="-64080"/>
                <a:ext cx="2309040" cy="2398320"/>
                <a:chOff x="7681680" y="-64080"/>
                <a:chExt cx="2309040" cy="2398320"/>
              </a:xfrm>
            </p:grpSpPr>
            <p:sp>
              <p:nvSpPr>
                <p:cNvPr id="17" name=""/>
                <p:cNvSpPr/>
                <p:nvPr/>
              </p:nvSpPr>
              <p:spPr>
                <a:xfrm rot="19133400">
                  <a:off x="8511120" y="150840"/>
                  <a:ext cx="2426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 rot="19133400">
                  <a:off x="8502120" y="59580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 rot="19133400">
                  <a:off x="8177040" y="331920"/>
                  <a:ext cx="8013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 rot="19133400">
                  <a:off x="8234640" y="6804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 rot="19133400">
                  <a:off x="8759160" y="154368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 rot="19133400">
                  <a:off x="8715960" y="138960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 rot="19133400">
                  <a:off x="8491680" y="376560"/>
                  <a:ext cx="2869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 rot="19133400">
                  <a:off x="8458200" y="25848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" name=""/>
            <p:cNvSpPr/>
            <p:nvPr/>
          </p:nvSpPr>
          <p:spPr>
            <a:xfrm>
              <a:off x="8380440" y="117360"/>
              <a:ext cx="3420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"/>
          <p:cNvSpPr/>
          <p:nvPr/>
        </p:nvSpPr>
        <p:spPr>
          <a:xfrm>
            <a:off x="4479840" y="32767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"/>
          <p:cNvGrpSpPr/>
          <p:nvPr/>
        </p:nvGrpSpPr>
        <p:grpSpPr>
          <a:xfrm>
            <a:off x="15840" y="6284880"/>
            <a:ext cx="884160" cy="528840"/>
            <a:chOff x="15840" y="6284880"/>
            <a:chExt cx="884160" cy="528840"/>
          </a:xfrm>
        </p:grpSpPr>
        <p:sp>
          <p:nvSpPr>
            <p:cNvPr id="28" name=""/>
            <p:cNvSpPr/>
            <p:nvPr/>
          </p:nvSpPr>
          <p:spPr>
            <a:xfrm>
              <a:off x="31680" y="6337440"/>
              <a:ext cx="830160" cy="4762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6160" y="6377040"/>
              <a:ext cx="550800" cy="4334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90360" y="6289560"/>
              <a:ext cx="623880" cy="289080"/>
            </a:xfrm>
            <a:custGeom>
              <a:avLst/>
              <a:gdLst/>
              <a:ahLst/>
              <a:rect l="l" t="t" r="r" b="b"/>
              <a:pathLst>
                <a:path w="1190" h="500">
                  <a:moveTo>
                    <a:pt x="100" y="0"/>
                  </a:moveTo>
                  <a:lnTo>
                    <a:pt x="1190" y="490"/>
                  </a:lnTo>
                  <a:lnTo>
                    <a:pt x="1076" y="500"/>
                  </a:lnTo>
                  <a:lnTo>
                    <a:pt x="0" y="27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84040" y="6467400"/>
              <a:ext cx="255600" cy="171360"/>
            </a:xfrm>
            <a:custGeom>
              <a:avLst/>
              <a:gdLst/>
              <a:ahLst/>
              <a:rect l="l" t="t" r="r" b="b"/>
              <a:pathLst>
                <a:path w="489" h="296">
                  <a:moveTo>
                    <a:pt x="14" y="34"/>
                  </a:moveTo>
                  <a:lnTo>
                    <a:pt x="160" y="66"/>
                  </a:lnTo>
                  <a:lnTo>
                    <a:pt x="324" y="137"/>
                  </a:lnTo>
                  <a:lnTo>
                    <a:pt x="440" y="243"/>
                  </a:lnTo>
                  <a:lnTo>
                    <a:pt x="326" y="230"/>
                  </a:lnTo>
                  <a:lnTo>
                    <a:pt x="139" y="146"/>
                  </a:lnTo>
                  <a:lnTo>
                    <a:pt x="50" y="80"/>
                  </a:lnTo>
                  <a:lnTo>
                    <a:pt x="107" y="163"/>
                  </a:lnTo>
                  <a:lnTo>
                    <a:pt x="272" y="270"/>
                  </a:lnTo>
                  <a:lnTo>
                    <a:pt x="466" y="296"/>
                  </a:lnTo>
                  <a:lnTo>
                    <a:pt x="489" y="224"/>
                  </a:lnTo>
                  <a:lnTo>
                    <a:pt x="394" y="120"/>
                  </a:lnTo>
                  <a:lnTo>
                    <a:pt x="170" y="17"/>
                  </a:lnTo>
                  <a:lnTo>
                    <a:pt x="0" y="0"/>
                  </a:lnTo>
                  <a:lnTo>
                    <a:pt x="14" y="34"/>
                  </a:lnTo>
                  <a:lnTo>
                    <a:pt x="1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12800" y="6654960"/>
              <a:ext cx="79200" cy="101520"/>
            </a:xfrm>
            <a:custGeom>
              <a:avLst/>
              <a:gdLst/>
              <a:ahLst/>
              <a:rect l="l" t="t" r="r" b="b"/>
              <a:pathLst>
                <a:path w="150" h="173">
                  <a:moveTo>
                    <a:pt x="110" y="0"/>
                  </a:moveTo>
                  <a:lnTo>
                    <a:pt x="40" y="66"/>
                  </a:lnTo>
                  <a:lnTo>
                    <a:pt x="0" y="173"/>
                  </a:lnTo>
                  <a:lnTo>
                    <a:pt x="80" y="160"/>
                  </a:lnTo>
                  <a:lnTo>
                    <a:pt x="103" y="84"/>
                  </a:lnTo>
                  <a:lnTo>
                    <a:pt x="150" y="27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5840" y="6284880"/>
              <a:ext cx="884160" cy="509760"/>
            </a:xfrm>
            <a:custGeom>
              <a:avLst/>
              <a:gdLst/>
              <a:ahLst/>
              <a:rect l="l" t="t" r="r" b="b"/>
              <a:pathLst>
                <a:path w="1684" h="880">
                  <a:moveTo>
                    <a:pt x="156" y="0"/>
                  </a:moveTo>
                  <a:lnTo>
                    <a:pt x="63" y="52"/>
                  </a:lnTo>
                  <a:lnTo>
                    <a:pt x="0" y="208"/>
                  </a:lnTo>
                  <a:lnTo>
                    <a:pt x="67" y="358"/>
                  </a:lnTo>
                  <a:lnTo>
                    <a:pt x="1182" y="867"/>
                  </a:lnTo>
                  <a:lnTo>
                    <a:pt x="1422" y="835"/>
                  </a:lnTo>
                  <a:lnTo>
                    <a:pt x="1616" y="880"/>
                  </a:lnTo>
                  <a:lnTo>
                    <a:pt x="1684" y="808"/>
                  </a:lnTo>
                  <a:lnTo>
                    <a:pt x="1502" y="664"/>
                  </a:lnTo>
                  <a:lnTo>
                    <a:pt x="1428" y="512"/>
                  </a:lnTo>
                  <a:lnTo>
                    <a:pt x="1369" y="527"/>
                  </a:lnTo>
                  <a:lnTo>
                    <a:pt x="1439" y="664"/>
                  </a:lnTo>
                  <a:lnTo>
                    <a:pt x="1578" y="810"/>
                  </a:lnTo>
                  <a:lnTo>
                    <a:pt x="1413" y="787"/>
                  </a:lnTo>
                  <a:lnTo>
                    <a:pt x="1219" y="814"/>
                  </a:lnTo>
                  <a:lnTo>
                    <a:pt x="1255" y="650"/>
                  </a:lnTo>
                  <a:lnTo>
                    <a:pt x="1338" y="538"/>
                  </a:lnTo>
                  <a:lnTo>
                    <a:pt x="1241" y="552"/>
                  </a:lnTo>
                  <a:lnTo>
                    <a:pt x="1165" y="658"/>
                  </a:lnTo>
                  <a:lnTo>
                    <a:pt x="1139" y="791"/>
                  </a:lnTo>
                  <a:lnTo>
                    <a:pt x="107" y="310"/>
                  </a:lnTo>
                  <a:lnTo>
                    <a:pt x="80" y="215"/>
                  </a:lnTo>
                  <a:lnTo>
                    <a:pt x="103" y="95"/>
                  </a:lnTo>
                  <a:lnTo>
                    <a:pt x="217" y="0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22400" y="6332400"/>
              <a:ext cx="83880" cy="193680"/>
            </a:xfrm>
            <a:custGeom>
              <a:avLst/>
              <a:gdLst/>
              <a:ahLst/>
              <a:rect l="l" t="t" r="r" b="b"/>
              <a:pathLst>
                <a:path w="160" h="335">
                  <a:moveTo>
                    <a:pt x="116" y="0"/>
                  </a:moveTo>
                  <a:lnTo>
                    <a:pt x="19" y="106"/>
                  </a:lnTo>
                  <a:lnTo>
                    <a:pt x="0" y="230"/>
                  </a:lnTo>
                  <a:lnTo>
                    <a:pt x="33" y="314"/>
                  </a:lnTo>
                  <a:lnTo>
                    <a:pt x="94" y="335"/>
                  </a:lnTo>
                  <a:lnTo>
                    <a:pt x="76" y="154"/>
                  </a:lnTo>
                  <a:lnTo>
                    <a:pt x="160" y="17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DFA2-3882-4681-8287-0E4816F6D45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7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1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7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1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093080" y="5832360"/>
            <a:ext cx="2050920" cy="1025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3080" y="5985000"/>
            <a:ext cx="4135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 Hannes van der W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inburne Uni, Melbourne,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76360" y="764640"/>
            <a:ext cx="4392360" cy="1003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mputer Aided Engineering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549080" y="2492280"/>
            <a:ext cx="603252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troduction to EE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Engineering Equation Solver)</a:t>
            </a:r>
            <a:br>
              <a:rPr sz="32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cture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unit syst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-in fun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Unit Syst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9185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ES also allows unit conver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se we have the equation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 = m 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but we want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k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If we set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[kN]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the units map, we will get a war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 we do thi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m * a * convert(N, k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Alternatively you can do this, but then you need to know the conversion constant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1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 *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 1000 [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kN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= m *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0.001 [k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Unit Syst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9185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can even convert between Imperial and SI uni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_3 = 10 [lbm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_3 = 3.5 [m/s^2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{F_3 = m_3 * a_3}     "This would give an error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_3 = (m_3 * convert(lbm, kg)) * a_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Unit Syst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91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can also assign units to constants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n sit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make a constant clearer, for examp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This is clearer than the next...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= 3.5 [h] * 3600 [s/h]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The fact that this is 3.5 hours is not as apparent!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= 12600 [s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ES online exampl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/Units conversion/Checking units and unit conversion (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HeatEx.E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/Getting Started with EES/Converting units function (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Convert.E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ilt-in Func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4173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ES provides built-in functions in the following categor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id proper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id / Liquid proper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S Library rout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ternal rout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code can be pas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nction Info (Hel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1476360" y="595008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Create a new EES worksheet and save it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Comic Sans MS"/>
              </a:rPr>
              <a:t>EES Lecture 2.2 – BuildInFunction.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719600" y="1955880"/>
            <a:ext cx="3882960" cy="31622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flipV="1">
            <a:off x="2340000" y="4941720"/>
            <a:ext cx="287964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84360" y="2923920"/>
            <a:ext cx="2374920" cy="2592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ilt-in Func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Maths examp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522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cos(Value)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"This is exactly as it was pasted"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22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522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it is up to you to modify the statement as you want it. Maybe you wanted to do the follow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22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lvl="1" marL="522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ta = 30 [deg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22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_coordinate = cos(thet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22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522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2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cos(3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Hardcoding values is rarely a good idea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2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2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858240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ilt-in Func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353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s examp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cc"/>
                </a:solidFill>
                <a:latin typeface="Arial"/>
              </a:rPr>
              <a:t>LogValue =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og10(100)</a:t>
            </a:r>
            <a:r>
              <a:rPr b="0" lang="en-A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"The log10(Value) was pasted!"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of trailing _ to prevent confu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gamma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ma_(Value)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"Note the trailing underscore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"Young’s Modulus – note underscore"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140 [C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_(Aluminum, T)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"Note American spelling!"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gral eq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ES can perform numerical integration and differentiation. How would you solve the following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"An integral equation – be sure to switch off complex numbers"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y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gral(x^3, x, 0, 3, 0.0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858240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509840" y="4751280"/>
                <a:ext cx="180504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ilt-in Func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918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y exa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2800" indent="-173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properties one typically has to specify conditions such as pressures and temperatures. Furthermore, one has to specify the material (a solid or a fluid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2800" indent="-173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implest example is probably the density of a gas. Let’s paste the density for air from the Fluid Properties Function Info dialo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2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712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o_1=Density(Air,T=T_1,P=P_1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858240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ilt-in Func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918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62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66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o_1=Density(Air,T=T_1,P=P_1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1920" indent="-331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e the follow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2760" indent="-160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name for the variable is automatically given, which you may want to chan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2760" indent="-160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irst argument is the fluid name. This name is actually a string and should strictly speaking have single quotes around it. However, as long as names don’t contain spaces, this will wor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2760" indent="-160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nditions for pressure and temperature are given next. The user should either hardcode these, or provide values for T_1 and P_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858240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ilt-in Func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luid property examp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</a:t>
            </a:r>
            <a:r>
              <a:rPr b="0" lang="en-AU" sz="2400" spc="-1" strike="noStrike">
                <a:solidFill>
                  <a:srgbClr val="0000cc"/>
                </a:solidFill>
                <a:latin typeface="Arial"/>
              </a:rPr>
              <a:t>T and P are hardcoded, but what are their units?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ho_1 =</a:t>
            </a:r>
            <a:r>
              <a:rPr b="0" lang="en-A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nsity(Air, T=25, P=100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</a:t>
            </a:r>
            <a:r>
              <a:rPr b="0" lang="en-AU" sz="2400" spc="-1" strike="noStrike">
                <a:solidFill>
                  <a:srgbClr val="0000cc"/>
                </a:solidFill>
                <a:latin typeface="Arial"/>
              </a:rPr>
              <a:t>It is actually better to do this (the units are now clear also):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</a:t>
            </a:r>
            <a:r>
              <a:rPr b="0" lang="en-AU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1 = 25 [C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1 = 100 [kPa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ho_2 =</a:t>
            </a:r>
            <a:r>
              <a:rPr b="0" lang="en-A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nsity(Air, T=T1, P=P1)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</a:t>
            </a:r>
            <a:r>
              <a:rPr b="0" lang="en-AU" sz="2400" spc="-1" strike="noStrike">
                <a:solidFill>
                  <a:srgbClr val="0000cc"/>
                </a:solidFill>
                <a:latin typeface="Arial"/>
              </a:rPr>
              <a:t>T1, P1 are variables!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 =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nthalpy(Water, T=T1, P=P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_specific = Volume(Water, T=T1, P=P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858240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ilt-in Func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918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id property examp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Young’s Modulus – note the underscore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140 [C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_(Aluminum, T)    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Note American spelling!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858240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91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ES introduction tutorial (4 Lectur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ving nonlinear &amp; implicit equation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ect 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tting of equation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ect 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unit system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(L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Built-in functions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(L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ptions men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ect 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metric studies &amp; plot basic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ect 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up tab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ect 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o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ect 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ilt-in Func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79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hort note on format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4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ability of typed equations is extremely important, however many people are just too lazy to think of the advantages. The original pasted code w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4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684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rho_1=Density(Air,T=T_1,P=P_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lvl="1" marL="684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it not much easier to read when the code looks as follow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4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684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rho_1 = Density(Air, T=T_1, P=P_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4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84000" indent="-165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spaces liberally around the equals sign, operators as well as after separators (the comma) to highlight separate sec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4000" indent="-165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becomes much more important when you have complex equations with many terms and bracke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858240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ip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91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rtcu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ght-click on a variable in the equations window to set unit &amp; display format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ght-click on a message to jump to the equ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rn to use the toolb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 sure to check out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&gt;Integration&gt;Double Integr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791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Lecture 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Unit Syst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91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ES is fully unit-aw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nit System is the first thing that should be set at the start of a proj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from the Options men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r to explicitly set units using directives (which will override dialog settings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Arial"/>
              </a:rPr>
              <a:t>$UnitSystem SI </a:t>
            </a:r>
            <a:r>
              <a:rPr b="0" lang="en-AU" sz="2400" spc="-1" strike="noStrike">
                <a:solidFill>
                  <a:srgbClr val="00b200"/>
                </a:solidFill>
                <a:latin typeface="Arial"/>
              </a:rPr>
              <a:t>MASS DEG KPA C K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a new EES worksheet and save it a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ES Lecture 2.1 – UnitSystem.e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 the 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$TabStop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$Unit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recti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Unit Syst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dividual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onstant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can be assigned unit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 = 25 [kg]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a = 2.5 [m/s^2]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F = m * 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t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anno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be assigned for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quation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but EES will automatically determine the units for F (shown in purple in the results window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Unit Syst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nt: Check the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“Check units automatically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the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“Set units automatically when possible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heckboxes in the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Options menu &gt; Preferences &gt; Opt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ab, then press Store and select the EES.PRF file to make this permanent. You may also want to select the other options as indicat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067280" y="3586320"/>
            <a:ext cx="4459320" cy="3155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994120" y="5878440"/>
            <a:ext cx="1290600" cy="1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94120" y="5734080"/>
            <a:ext cx="129060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Unit Syst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1052640"/>
          <a:ext cx="734364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52640"/>
                    <a:ext cx="734364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268360" y="3525840"/>
          <a:ext cx="6330960" cy="31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525840"/>
                    <a:ext cx="633096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Unit Syst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91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s are mapped in th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Options &gt; Variable Inf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en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nits shown for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[kg-m/s^2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this to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[N]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observe that EES gives no warn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change the units for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[kN]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check out the warning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the unit for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[lbm]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set the unit for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[N]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check out the warning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Unit Syst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621560" cy="3552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656000" y="4971960"/>
            <a:ext cx="36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uess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er and Upper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868720" y="227664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3640" y="212256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Automatically assigned units in pur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Unit Syst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052640"/>
          <a:ext cx="5905440" cy="32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52640"/>
                    <a:ext cx="5905440" cy="32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71640" y="3446640"/>
          <a:ext cx="5884920" cy="32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3446640"/>
                    <a:ext cx="588492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 flipH="1">
            <a:off x="3492000" y="2060640"/>
            <a:ext cx="2808360" cy="576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340000" y="5084280"/>
            <a:ext cx="3311640" cy="28908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492000" y="2060640"/>
            <a:ext cx="2808360" cy="1152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5373720"/>
            <a:ext cx="647640" cy="14292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00720" y="1628640"/>
            <a:ext cx="225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unit problems with F in [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4762440"/>
            <a:ext cx="22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t problems with F in [k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09:58:35Z</dcterms:created>
  <dc:creator>Hannes Van Der Walt</dc:creator>
  <dc:description/>
  <dc:language>en-US</dc:language>
  <cp:lastModifiedBy>Hannes van der Walt</cp:lastModifiedBy>
  <dcterms:modified xsi:type="dcterms:W3CDTF">2007-09-12T08:28:11Z</dcterms:modified>
  <cp:revision>148</cp:revision>
  <dc:subject/>
  <dc:title>HES 2416 Computer Aided Engineering</dc:title>
</cp:coreProperties>
</file>