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0C7-B933-46B8-9A9B-A31A0383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682-E71A-4304-8D77-8B29163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DFC-F721-44BF-9C4D-2FC05E1F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6132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3864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400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6132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3864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B44-B038-47B0-8163-5A21C8BB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39C-23E4-44F9-BBEF-F8DED8A4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D4D4-9207-4584-A251-E794150F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38D7-AD80-4DE4-9F44-263F157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9523-446A-4513-9F24-AF1E5E69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004-E4AB-4089-A460-F838841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EA25-DB03-4636-B4CB-12887A77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A912-43CF-47ED-9C97-A72716A3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DAA-46C0-4797-9DE3-5CECFBB2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B19E-C78E-4BFB-9683-022C374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A375-CCE5-419F-AD67-5775309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C87A-69FD-4F69-B0C3-C27BCAE9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F339-F66F-415A-92A3-3012E93D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132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8640" y="98100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400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132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8640" y="3651480"/>
            <a:ext cx="254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EFF1-EE38-49AA-A4A3-41BFD14B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652-8089-4715-AC04-82AFC709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6B7-E096-4630-8ED0-F3CF1ACE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27C-2DB7-477F-A135-7FEC0B90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3AB-6801-404B-9AA5-5E871416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F60-9E0D-49ED-98DF-01D5127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1560" y="365148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4B2-3CED-42E8-9D0F-9CE62E6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1560" y="981000"/>
            <a:ext cx="3863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000" y="3651480"/>
            <a:ext cx="791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71A-3655-4C99-8945-51A28BF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539640" y="836640"/>
          <a:ext cx="799308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836640"/>
                    <a:ext cx="79930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 rot="19047000">
            <a:off x="8157960" y="4896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412-2D13-4576-A8E0-4F3B839342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9139400">
            <a:off x="8230680" y="10764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9158000">
            <a:off x="8185320" y="203040"/>
            <a:ext cx="102528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5877000"/>
            <a:ext cx="1141560" cy="752400"/>
          </a:xfrm>
          <a:custGeom>
            <a:avLst/>
            <a:gdLst/>
            <a:ahLst/>
            <a:rect l="l" t="t" r="r" b="b"/>
            <a:pathLst>
              <a:path w="2177" h="1298">
                <a:moveTo>
                  <a:pt x="1587" y="1260"/>
                </a:moveTo>
                <a:lnTo>
                  <a:pt x="1420" y="1106"/>
                </a:lnTo>
                <a:lnTo>
                  <a:pt x="1331" y="477"/>
                </a:lnTo>
                <a:lnTo>
                  <a:pt x="2139" y="330"/>
                </a:lnTo>
                <a:lnTo>
                  <a:pt x="2177" y="203"/>
                </a:lnTo>
                <a:lnTo>
                  <a:pt x="2099" y="100"/>
                </a:lnTo>
                <a:lnTo>
                  <a:pt x="1276" y="211"/>
                </a:lnTo>
                <a:lnTo>
                  <a:pt x="1219" y="32"/>
                </a:lnTo>
                <a:lnTo>
                  <a:pt x="1085" y="0"/>
                </a:lnTo>
                <a:lnTo>
                  <a:pt x="958" y="28"/>
                </a:lnTo>
                <a:lnTo>
                  <a:pt x="888" y="106"/>
                </a:lnTo>
                <a:lnTo>
                  <a:pt x="937" y="285"/>
                </a:lnTo>
                <a:lnTo>
                  <a:pt x="660" y="441"/>
                </a:lnTo>
                <a:lnTo>
                  <a:pt x="983" y="473"/>
                </a:lnTo>
                <a:lnTo>
                  <a:pt x="1112" y="889"/>
                </a:lnTo>
                <a:lnTo>
                  <a:pt x="141" y="469"/>
                </a:lnTo>
                <a:lnTo>
                  <a:pt x="46" y="509"/>
                </a:lnTo>
                <a:lnTo>
                  <a:pt x="0" y="636"/>
                </a:lnTo>
                <a:lnTo>
                  <a:pt x="55" y="779"/>
                </a:lnTo>
                <a:lnTo>
                  <a:pt x="1139" y="1288"/>
                </a:lnTo>
                <a:lnTo>
                  <a:pt x="1378" y="1256"/>
                </a:lnTo>
                <a:lnTo>
                  <a:pt x="1570" y="1298"/>
                </a:lnTo>
                <a:lnTo>
                  <a:pt x="1587" y="1260"/>
                </a:lnTo>
                <a:lnTo>
                  <a:pt x="1587" y="126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4920" y="6284880"/>
            <a:ext cx="884160" cy="528840"/>
            <a:chOff x="34920" y="6284880"/>
            <a:chExt cx="884160" cy="528840"/>
          </a:xfrm>
        </p:grpSpPr>
        <p:sp>
          <p:nvSpPr>
            <p:cNvPr id="12" name=""/>
            <p:cNvSpPr/>
            <p:nvPr/>
          </p:nvSpPr>
          <p:spPr>
            <a:xfrm>
              <a:off x="50760" y="6337440"/>
              <a:ext cx="830160" cy="476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65240" y="6377040"/>
              <a:ext cx="550800" cy="433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9440" y="6289560"/>
              <a:ext cx="623880" cy="289080"/>
            </a:xfrm>
            <a:custGeom>
              <a:avLst/>
              <a:gdLst/>
              <a:ahLst/>
              <a:rect l="l" t="t" r="r" b="b"/>
              <a:pathLst>
                <a:path w="1190" h="500">
                  <a:moveTo>
                    <a:pt x="100" y="0"/>
                  </a:moveTo>
                  <a:lnTo>
                    <a:pt x="1190" y="490"/>
                  </a:lnTo>
                  <a:lnTo>
                    <a:pt x="1076" y="500"/>
                  </a:lnTo>
                  <a:lnTo>
                    <a:pt x="0" y="27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3120" y="6467400"/>
              <a:ext cx="255600" cy="171360"/>
            </a:xfrm>
            <a:custGeom>
              <a:avLst/>
              <a:gdLst/>
              <a:ahLst/>
              <a:rect l="l" t="t" r="r" b="b"/>
              <a:pathLst>
                <a:path w="489" h="296">
                  <a:moveTo>
                    <a:pt x="14" y="34"/>
                  </a:moveTo>
                  <a:lnTo>
                    <a:pt x="160" y="66"/>
                  </a:lnTo>
                  <a:lnTo>
                    <a:pt x="324" y="137"/>
                  </a:lnTo>
                  <a:lnTo>
                    <a:pt x="440" y="243"/>
                  </a:lnTo>
                  <a:lnTo>
                    <a:pt x="326" y="230"/>
                  </a:lnTo>
                  <a:lnTo>
                    <a:pt x="139" y="146"/>
                  </a:lnTo>
                  <a:lnTo>
                    <a:pt x="50" y="80"/>
                  </a:lnTo>
                  <a:lnTo>
                    <a:pt x="107" y="163"/>
                  </a:lnTo>
                  <a:lnTo>
                    <a:pt x="272" y="270"/>
                  </a:lnTo>
                  <a:lnTo>
                    <a:pt x="466" y="296"/>
                  </a:lnTo>
                  <a:lnTo>
                    <a:pt x="489" y="224"/>
                  </a:lnTo>
                  <a:lnTo>
                    <a:pt x="394" y="120"/>
                  </a:lnTo>
                  <a:lnTo>
                    <a:pt x="170" y="17"/>
                  </a:lnTo>
                  <a:lnTo>
                    <a:pt x="0" y="0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31880" y="6654960"/>
              <a:ext cx="79200" cy="10152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110" y="0"/>
                  </a:moveTo>
                  <a:lnTo>
                    <a:pt x="40" y="66"/>
                  </a:lnTo>
                  <a:lnTo>
                    <a:pt x="0" y="173"/>
                  </a:lnTo>
                  <a:lnTo>
                    <a:pt x="80" y="160"/>
                  </a:lnTo>
                  <a:lnTo>
                    <a:pt x="103" y="84"/>
                  </a:lnTo>
                  <a:lnTo>
                    <a:pt x="150" y="27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4920" y="6284880"/>
              <a:ext cx="884160" cy="509760"/>
            </a:xfrm>
            <a:custGeom>
              <a:avLst/>
              <a:gdLst/>
              <a:ahLst/>
              <a:rect l="l" t="t" r="r" b="b"/>
              <a:pathLst>
                <a:path w="1684" h="880">
                  <a:moveTo>
                    <a:pt x="156" y="0"/>
                  </a:moveTo>
                  <a:lnTo>
                    <a:pt x="63" y="52"/>
                  </a:lnTo>
                  <a:lnTo>
                    <a:pt x="0" y="208"/>
                  </a:lnTo>
                  <a:lnTo>
                    <a:pt x="67" y="358"/>
                  </a:lnTo>
                  <a:lnTo>
                    <a:pt x="1182" y="867"/>
                  </a:lnTo>
                  <a:lnTo>
                    <a:pt x="1422" y="835"/>
                  </a:lnTo>
                  <a:lnTo>
                    <a:pt x="1616" y="880"/>
                  </a:lnTo>
                  <a:lnTo>
                    <a:pt x="1684" y="808"/>
                  </a:lnTo>
                  <a:lnTo>
                    <a:pt x="1502" y="664"/>
                  </a:lnTo>
                  <a:lnTo>
                    <a:pt x="1428" y="512"/>
                  </a:lnTo>
                  <a:lnTo>
                    <a:pt x="1369" y="527"/>
                  </a:lnTo>
                  <a:lnTo>
                    <a:pt x="1439" y="664"/>
                  </a:lnTo>
                  <a:lnTo>
                    <a:pt x="1578" y="810"/>
                  </a:lnTo>
                  <a:lnTo>
                    <a:pt x="1413" y="787"/>
                  </a:lnTo>
                  <a:lnTo>
                    <a:pt x="1219" y="814"/>
                  </a:lnTo>
                  <a:lnTo>
                    <a:pt x="1255" y="650"/>
                  </a:lnTo>
                  <a:lnTo>
                    <a:pt x="1338" y="538"/>
                  </a:lnTo>
                  <a:lnTo>
                    <a:pt x="1241" y="552"/>
                  </a:lnTo>
                  <a:lnTo>
                    <a:pt x="1165" y="658"/>
                  </a:lnTo>
                  <a:lnTo>
                    <a:pt x="1139" y="791"/>
                  </a:lnTo>
                  <a:lnTo>
                    <a:pt x="107" y="310"/>
                  </a:lnTo>
                  <a:lnTo>
                    <a:pt x="80" y="215"/>
                  </a:lnTo>
                  <a:lnTo>
                    <a:pt x="103" y="95"/>
                  </a:lnTo>
                  <a:lnTo>
                    <a:pt x="217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1480" y="6332400"/>
              <a:ext cx="83880" cy="193680"/>
            </a:xfrm>
            <a:custGeom>
              <a:avLst/>
              <a:gdLst/>
              <a:ahLst/>
              <a:rect l="l" t="t" r="r" b="b"/>
              <a:pathLst>
                <a:path w="160" h="335">
                  <a:moveTo>
                    <a:pt x="116" y="0"/>
                  </a:moveTo>
                  <a:lnTo>
                    <a:pt x="19" y="106"/>
                  </a:lnTo>
                  <a:lnTo>
                    <a:pt x="0" y="230"/>
                  </a:lnTo>
                  <a:lnTo>
                    <a:pt x="33" y="314"/>
                  </a:lnTo>
                  <a:lnTo>
                    <a:pt x="94" y="335"/>
                  </a:lnTo>
                  <a:lnTo>
                    <a:pt x="76" y="154"/>
                  </a:lnTo>
                  <a:lnTo>
                    <a:pt x="160" y="17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7681680" y="-64080"/>
            <a:ext cx="2309040" cy="2398320"/>
            <a:chOff x="7681680" y="-64080"/>
            <a:chExt cx="2309040" cy="2398320"/>
          </a:xfrm>
        </p:grpSpPr>
        <p:grpSp>
          <p:nvGrpSpPr>
            <p:cNvPr id="23" name=""/>
            <p:cNvGrpSpPr/>
            <p:nvPr/>
          </p:nvGrpSpPr>
          <p:grpSpPr>
            <a:xfrm>
              <a:off x="7681680" y="-64080"/>
              <a:ext cx="2309040" cy="2398320"/>
              <a:chOff x="7681680" y="-64080"/>
              <a:chExt cx="2309040" cy="2398320"/>
            </a:xfrm>
          </p:grpSpPr>
          <p:sp>
            <p:nvSpPr>
              <p:cNvPr id="24" name=""/>
              <p:cNvSpPr/>
              <p:nvPr/>
            </p:nvSpPr>
            <p:spPr>
              <a:xfrm rot="19133400">
                <a:off x="8878320" y="186048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" name=""/>
              <p:cNvGrpSpPr/>
              <p:nvPr/>
            </p:nvGrpSpPr>
            <p:grpSpPr>
              <a:xfrm>
                <a:off x="7681680" y="-64080"/>
                <a:ext cx="2309040" cy="2398320"/>
                <a:chOff x="7681680" y="-64080"/>
                <a:chExt cx="2309040" cy="2398320"/>
              </a:xfrm>
            </p:grpSpPr>
            <p:sp>
              <p:nvSpPr>
                <p:cNvPr id="26" name=""/>
                <p:cNvSpPr/>
                <p:nvPr/>
              </p:nvSpPr>
              <p:spPr>
                <a:xfrm rot="19133400">
                  <a:off x="8511120" y="15084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 rot="19133400">
                  <a:off x="8502120" y="59580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rot="19133400">
                  <a:off x="8177040" y="33192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 rot="19133400">
                  <a:off x="8234640" y="6804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 rot="19133400">
                  <a:off x="8759160" y="154368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 rot="19133400">
                  <a:off x="8715960" y="13896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9133400">
                  <a:off x="8491680" y="37656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rot="19133400">
                  <a:off x="8458200" y="25848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" name=""/>
            <p:cNvSpPr/>
            <p:nvPr/>
          </p:nvSpPr>
          <p:spPr>
            <a:xfrm>
              <a:off x="8380440" y="117360"/>
              <a:ext cx="3420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6AA2-17ED-4598-B85F-9533B9322E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93080" y="5832360"/>
            <a:ext cx="2050920" cy="102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080" y="5985000"/>
            <a:ext cx="413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 Hannes van der 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nburne Uni, Melbourne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76360" y="764640"/>
            <a:ext cx="4392360" cy="10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uter Aided Engineering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60325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duction to E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Engineering Equation Solver)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cture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ing and format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ing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9898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new EES worksheet and save it 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ES Lecture 1.1 – BasicEquation.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ype in the nonlinear set of equations and solve for the 3 unknowns (use Ctrl+F to see the equations in formatted view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rder in which the equations are entered does not matter at al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/Getting Started with EES/Solving multiple equations (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BasicEqn.E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trl+F to see the equations in formatted view (Windows &gt; Formatted Equation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2360" y="5168880"/>
            <a:ext cx="863640" cy="636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ting and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0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new EES worksheet and save it 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ES Lecture 1.2 – EquationFormat.e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types of com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s in quotes are shown in formatted 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s in curly brackets are not shown in formatted 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"Equation Formatting"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is will be shown in formatted 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"!Equation Formatting"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is will be shown in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Equation Formatting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is will not be sh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also highlight any text (select and then right-cli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ting and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9898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inary variables and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Define some variables. Actually, they are really constants as you cannot later assign other values to any of them!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!A more complex equation using these variables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rt(1 + (a+b)/c + d) = e 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Note the use of spaces!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formatted vie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e position of the unknown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“d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equation - it does not have to be on the lef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5264280"/>
            <a:ext cx="636840" cy="46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ting and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This is how we define arrays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[1] =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[4] = 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[2,2] = 10  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This is a 2-D array (matrix)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y indices are shown as subscripts. Note that arrays are also displayed in an array window (activate from the Windows menu and toolb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ising the po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Raising power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^2 =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s are shown as superscrip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9520" y="5877000"/>
            <a:ext cx="563400" cy="41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56340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ting and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9898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olute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Absolute value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_abs = abs(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formatted vie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ever Greek letter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Clever Greek letters!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AT =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aP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EGA = 1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ega = 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TA = 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ta = 4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Although the formatted view distinguishes between upper and lower cases, the EES solver does not! Hence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“OMEGA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“omega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regarded as the same variabl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9880" y="2382840"/>
            <a:ext cx="636480" cy="469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5516640"/>
            <a:ext cx="63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ting and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918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forma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General formatting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_old = 10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Subscript"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|alpha = 9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Superscript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_dot = 10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It understands dots &amp; double dots!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_ddot = 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Double dot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_hat = 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Hat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_bar = 2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Over bar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|o = 20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Superscript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|star = 325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Special superscript - star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|plus = 0.1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Special superscript - plus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_infinity = 25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Often used to denote freestream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"Use the Ctrl+F to view!"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ting and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iler dir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with a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a look at the Help system under the “Directives” h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rectives that we will always u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$TabStops 0.5 c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$UnitSystem SI MASS C KPA KJ DE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also later look at the following directi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Arial"/>
              </a:rPr>
              <a:t>$If Cond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Arial"/>
              </a:rPr>
              <a:t>$E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Arial"/>
              </a:rPr>
              <a:t>$End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ES defines a large number of constants. Check out Options &gt; Constants. Of interest are the follow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#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grav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 one can wr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F = m * g#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ead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g = 9.81 [m/s^2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F = m *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#, false#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olean tes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ma#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tefan-Boltzmann constant – radi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#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peed of ligh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#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niversal gas consta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 the Ideal Gas Constant for air would b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_air = R# / MolarMass(Ai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Lecture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440" y="14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E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atures of 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ES introduction tutorial (4 Lectur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lving nonlinear &amp; implicit equations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(Lect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Formatting of equations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(Lect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nit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-in fun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tions men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metric studies &amp; plot basic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up t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o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ct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EE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S (pronounced “Ease”) is a general purpose equation solver, modeling and analysis tool which has started life specifically for the purpose of engineering 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quite capable (it is also used in industry) and is more than adequate for engineering education purpo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main claim to fame is that past students have used it with “ease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find it far easier to use than any other software they have been introduced to, inclu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themat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tl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thc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vantages of E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8469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requires no real programming (although you can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cit (iterative solver) – equations in any or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geared towards engineering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s enabled and unit conversion rout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ted equations view with Greek letters and maths symb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s of online example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llent online help and online man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om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the entire Faculty –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ents and staff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s can take it home – it is small in size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 will use it extensively throughout your entire Engineering course, so spend the time and learn it thoroughly now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4869000"/>
            <a:ext cx="863640" cy="636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atures of E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0629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ellent engineering feat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up tables with linear-, cubic- and quadratic interpo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re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ots and overlay pl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 window (User Interfa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mation (Cool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-in property library - thermo, fluid and material properties (easily extendible by us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efined engineering cons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ellent engineering analysis feat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metric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certainty propag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/Ma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atures of E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s capabilities includ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erical integration and different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x numbers and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sel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F and ERFC (Gaussian Error Funct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ma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 and imaginary nu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polation (2-D and 3-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erous external librarie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EES Help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532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ES’s Help system comprises of a standard Windows help system as well as a complete user’s manual in PDF format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find both extremely helpful and easy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are strongly encouraged to study the first two chapters of the PDF EES manual. A small time investment now to do this will save you many hours of struggling to figure out how things work at a later sta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is cannot be emphasised strongly enough!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a large number of examples on just about every topic included with EES – just check out the Examples men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134040" y="1125360"/>
          <a:ext cx="229248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4040" y="1125360"/>
                    <a:ext cx="22924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32600" y="3646440"/>
          <a:ext cx="2303280" cy="23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2600" y="3646440"/>
                    <a:ext cx="23032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012000" y="1052640"/>
          <a:ext cx="2638440" cy="578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052640"/>
                    <a:ext cx="263844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ES Tutoria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91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this tutori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ing nonlinear and implici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tting a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859644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ing nonlinear Equ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3882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would you solve the follow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an implicit equation i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as the follow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433840" y="1484280"/>
                <a:ext cx="237816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92360" y="5084640"/>
            <a:ext cx="6621480" cy="116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82400" y="655308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: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02400" y="2565360"/>
            <a:ext cx="32288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bably by substitution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04280" y="6308640"/>
            <a:ext cx="150948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terativel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9:58:35Z</dcterms:created>
  <dc:creator>Hannes Van Der Walt</dc:creator>
  <dc:description/>
  <dc:language>en-US</dc:language>
  <cp:lastModifiedBy>Swinburne University</cp:lastModifiedBy>
  <dcterms:modified xsi:type="dcterms:W3CDTF">2007-03-20T21:21:43Z</dcterms:modified>
  <cp:revision>125</cp:revision>
  <dc:subject/>
  <dc:title>HES 2416 Computer Aided Engineering</dc:title>
</cp:coreProperties>
</file>